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983E-9FA8-414C-B567-5DA4924E1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2DCB-C4A3-4EE0-B430-3C73BF6C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3264-B3C5-4857-80D8-6A1266B2A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A56D-C439-42FF-A0C5-F141B4686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E8F7-C486-48A6-A4D0-F086434A2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AEC9-BE83-4AA1-8F09-D0CFD573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EB8C-1E93-48DC-8FD5-5E495CAD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D251-F98C-4A4F-87EA-22D2BDE4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AC49-4C19-49A5-B584-AE33382C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6807-EFCB-459A-899C-7F1E9CF1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5270-A16A-43E5-B96A-74B5F0C3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F275-BC69-4A74-A36A-DB133A75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8AA1-F197-41D5-AB09-6FB4FECA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1DC1-73FE-42E9-8977-12930930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FA3B8-EFA2-4BD2-93EC-96124061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FDAD-EAAD-42CB-A8A0-43A58609B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3C552-F2A1-43D9-83A9-7515FBBCE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5F05-ABBC-40D7-8316-EA5F009F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CA71-D447-4E2E-8AE4-E2519A71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7255-3F44-43CC-A136-368A5F0B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71F0-387F-40BF-A325-47ECBA10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C33B-8FC7-4BE1-97CE-3400ABD0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3501-6A6D-41DA-AA46-BD60B571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B408-D1F1-4E96-8EFD-3C492BDA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00EF-A5B6-4CD9-99E8-BB12E8D66793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06A4-D534-4A46-8627-302D18D78B1C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90720" y="28195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PT Bold Heading"/>
              </a:rPr>
              <a:t>مراحل التخطيط للطوار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cs typeface="PT Bold Heading"/>
              </a:rPr>
              <a:t>في مجال الدفاع المدني علي المستوي المحلي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مرحلة المواجهة والاستجابة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عتمد مرحلة المواجهة والاستجابة على عدة عوامل مثل :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معلومات الفورية عن الحادث ونتائجه وقدرته تساعد على اتخاذ  القرار المناسب( مسئولية الشرطة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حديد الموقع مع اتخاذ إجراءات العزل لموقع الحادث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  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( مسئولية الشرطة + المرور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واجد غرفة عمليات مركزية وأخري عملية بموقع الحادث للسيطرة والتوجيه واستقبال التقارير وإرسالها بالسرعة الممكنة ( مسئولية الجهة القائدة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نسيق الأنشطة الرسمية خلال مرحلة المواجهة لتجنب تداخل الاختصاصات والأنشطة              ( الجهة القائدة + الجهة الفنية القائمة علي التعامل مع الحادث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الإعلام والمعلومات بشأن خطورة الموقف والإجراءات الاستثنائية خلال الحدث ( الجهة القائدة 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جمع المعلومات عن الحادث وتأثيراته ( أجهزة البحث الجنائي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2-1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 خدمات الإنقاذ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قوات الدفاع المدني تقدم خدماتها معتمدة علي الأدوات المتاحة وطبيعة الحدث ويختص بها السلطات الرسمية والجهات المعاونة ( شركات المقاولات – شركات الكهرباء – هيئات البيئة – المصانع الكبرى –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خ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-2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خدمات الطبية 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حديد إمكانيات وقدرات الخدمات الطبية ( مستشفيات – إسعاف ) مهم جدا  للوقوف علي قدراتها علي استيعاب المصابين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إلخ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-3</a:t>
            </a: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مجموعات التطوعية </a:t>
            </a: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تم تحديد أعداد المتطوعين بالمنظمات والجمعيات الأهلية ( الهلال الأحمر – تنمية المجتمع – </a:t>
            </a:r>
            <a:r>
              <a:rPr b="0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التي يمكن أن يشاركوا في العمليات المساعدة للسلطات الرسمية وقت الحدث علي أن يتم تدريبهم مسبقا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مرحلة إعادة التوازن ( ما بعد الموجهة ) 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3-1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-  المكونات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خطط قصيرة الأجل التي تمكن من إعادة النشاط للمكان بسرع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خطط طويلة الأجل من أجل تجنب مثل هذا الحدث في نفس هذا المكان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3-2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أهداف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إدارة النشاط والإنتاج للمكان بالسرعة الممكن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الدراسة الكاملة للإيجابيات والسلبيات من أجل زيادة الفاعلية والكفاءة للإجراءات بالمكان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4</a:t>
            </a:r>
            <a:r>
              <a:rPr b="1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الإجراءات القياسية لمواجهة الحوادث الكبرى والكوارث :-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نقصد هنا وضع سيناريوهات للمواقف المتوقعة لدراسة أثارها علي العناصر المحيطة( الحياة – الممتلكات – البيئة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440" y="6091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5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الاختبارات العملية علي كفاءة خطط الطوارئ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جب عمل اختبارات عملية علي سيناريوهات الخطة لمعرفة رد الفعل والاستجابة للسلطات الرسمية تجاه الحدث ( الكفاءة – الوقت – التنظيم – التنسيق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متابعة بمعرفة القيادات المختصة ( الأمن – الدفاع المدني- الشرطة – المرور ) ويتم ذلك من خلال تجارب عملية ليلية أو نهارية خلال مدة زمنية محدده ( كل ثلاثة أشهر أو ستة أشهر خلال العام </a:t>
            </a:r>
            <a:r>
              <a:rPr b="0" lang="ar-AE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)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6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تقييم خطة الطوارئ :- يجب الإجابة علي عدة أسئلة خلال عملية التخطيط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الخطة كاملة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أعلنت الخطة للهيئات والجهات المسئولة والمنسقة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وبصفة عامة إلي أي مدي تكون الخطة مناسبة لطبيعة الأنظمة الإدارية 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تتم البرامج التدريبية العملية بكفاءة 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وبصفة عامة هل أجابت الخطة علي خمس علامات استفهام تبدأ بحرف (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W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) باللغة الإنجليزية وهي :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who- where- how - when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–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which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129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ffff00"/>
                </a:solidFill>
                <a:latin typeface="Times New Roman"/>
                <a:cs typeface="Monotype Koufi"/>
              </a:rPr>
              <a:t>شكراً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2895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PT Bold Heading"/>
              </a:rPr>
              <a:t>عقيد /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Monotype Koufi"/>
              </a:rPr>
              <a:t>" أسامة إبراهيم شعبان "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مدير ادارة الدفاع المدنى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بالدقهليه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ظهرت الحوادث الحالية أهمية وضرورة التخطيط الجيد والهادف لمواجهة الطوارئ وهذا يتطلب الجهود والدعم والتنسيق الكامل لكل الهيئات التي تتعامل مع المواقف الطارئة</a:t>
            </a:r>
            <a:r>
              <a:rPr b="0" lang="ar-SA" sz="40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cc00"/>
                </a:solidFill>
                <a:latin typeface="Times New Roman"/>
                <a:cs typeface="HeshamNormal"/>
              </a:rPr>
              <a:t>وفي هذه الدراسة سنستعرض التخطيط للطوارئ في مجال الدفاع المدني وحسب الترتيب التالي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1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مقصود بالحوادث الطارئة في هذه </a:t>
            </a:r>
            <a:r>
              <a:rPr b="1" lang="ar-AE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دراسة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2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أهمية التخطيط  لمواجهة الكوارث 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3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مراحل الأساسية للتخطيط للطوار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</a:rPr>
              <a:t>01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cs typeface="HeshamNormal"/>
              </a:rPr>
              <a:t>المقصود بالحوادث الطارئة في هذه الدراسة :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قصد بالحوادث الطارئة في استعراضا هذا تلك الحوادث سواء أن كانت الطبيعية أو التي من صنع الإنسان والتي تتطلب مواجهتها قدرات عالية للأجهزة المعني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2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أهمية وأهداف التخطيط للطوارئ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2/1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– اتخاذ الإجراءات وتحديد الأدوار والمسئوليات لكل جه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2/2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– التنسيق وتنظيم التعاون طبقا لنظام متخصص ومكتوب ومعتمد وذلك لإعطاء رد فعل سريع ومناسب تجاه أي حادث طوارئ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3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المراحل الأساسية لخطة الطوارئ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 عملية إدارة الحوادث الكبرى أو الكوارث تتطلب جهودا منظمة وفعالة وكافية للمواجهة تتلخص في ستة مراحل كالأتي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1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مرحلة الاستعداد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2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مرحلة المواجهة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3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مرحلة إعادة التوازن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/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4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الإجراءات القياسية لمواجهة الحوادث الكبرى والكوارث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5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الاختبارات العملية لقياس كفاءة خطط الطوارئ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6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مرحلة التقييم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429000" y="2666880"/>
            <a:ext cx="25146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احل التخطيط الهاد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r>
              <a:rPr b="1" lang="ar-AE" sz="20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لمواجهة الطوار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6248520" y="3048120"/>
            <a:ext cx="2590560" cy="9144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الإعداد</a:t>
            </a:r>
            <a:r>
              <a:rPr b="0" lang="ar-A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8532600">
            <a:off x="5409720" y="9144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 إعادة التوازن</a:t>
            </a:r>
            <a:r>
              <a:rPr b="0" lang="ar-AE" sz="18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2054400">
            <a:off x="914040" y="9144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إجراءات القياسية</a:t>
            </a:r>
            <a:r>
              <a:rPr b="0" lang="ar-AE" sz="24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2971800"/>
            <a:ext cx="2590560" cy="9144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المواجه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2864000">
            <a:off x="5714280" y="52578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تجار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9707000">
            <a:off x="1066320" y="502884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تقييم</a:t>
            </a:r>
            <a:r>
              <a:rPr b="0" lang="ar-AE" sz="24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2824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 u="sng">
                <a:solidFill>
                  <a:srgbClr val="ffcc00"/>
                </a:solidFill>
                <a:uFillTx/>
                <a:latin typeface="Times New Roman"/>
              </a:rPr>
              <a:t>3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</a:rPr>
              <a:t>/1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– مرحلة الاستعداد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/1/1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مكونات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شطة للحد من مسببات الحوادث الكبرى ( خطط الوقاية من الحرائق – مساحات الأمان من الصناعات الخطيرة والمناطق السكانية – التحكم في توقيتات تداول المواد الخطرة – إنشاء مجاري للسيول –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شطة لتطوير القابلية والمهارات اللازمة لمواجهة الحوادث الكبرى ( قدرات السلطات الرسمية – قدرات السلطات المحلية – خطط التعاون – خطط الإخلاء –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تدريب الجيد المسبق والاهتمام بالعنصر البشري وبصفة عامة تنظيم الموارد 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{ مرفق </a:t>
            </a:r>
            <a:r>
              <a:rPr b="1" lang="ar-AE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1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}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ضع التشريعات اللازمة لتحقيق قدر آمن للمجتمع المحيط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ضع خطة لاعلام المواطنين أثناء الأزمات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</a:rPr>
              <a:t>3-1-2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</a:rPr>
              <a:t> – الأهداف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بناء ما يمكن لمنع أو تقليل حدة الحوادث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تحديد درجة الخطورة للاماكن طبقا لجغرافيتها وطبيعة النشاط الممارس بها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تحديد وسائل الاتصال والنقل والخدمات الطبية وإجراءات السيطرة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1-3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أهمية الاتصالات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سائل الاتصال لها أهمية كبري في المواجهة والاستجابة السريعة للحوادث ولرد الفعل الايجابي تجاهها ؛ وكذا تبادل المعلومات 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{مرفق  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2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 }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6T18:48:28Z</dcterms:created>
  <dc:creator>A_AMIN</dc:creator>
  <dc:description/>
  <dc:language>en-US</dc:language>
  <cp:lastModifiedBy>علاء الجمال </cp:lastModifiedBy>
  <dcterms:modified xsi:type="dcterms:W3CDTF">2007-03-06T13:13:18Z</dcterms:modified>
  <cp:revision>25</cp:revision>
  <dc:subject/>
  <dc:title>Slide 1</dc:title>
</cp:coreProperties>
</file>